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move the slide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615D-5614-4B40-BFE7-67F6C37367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F9A6-80EB-4458-8BC3-AEC4F3A9284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D7BE-2159-4251-8D53-9880140B49F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919A-D5B8-447F-A8CB-D382D5BDCA1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0A8F-3A2A-4A68-8AAA-D47DAEAE3A5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하는 페이지를 모두 쉽게 찾아갈 수 있도록 메뉴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헤매지 않도록 사이트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위메뉴 버튼 등 제공하기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8314-A02F-4E98-A201-1D8846BFBC1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6AE9-5255-48BF-976C-86704D2AD82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E0E9-8D20-4D9A-A0A5-BD59FE2A8D3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B142-AC95-4EDF-BE87-3627DADBDB0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8FEA-EEB3-4737-A02E-CFF10D46626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58B-E9CD-4898-927B-47D56DCCAB2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B4A2-4AE9-4A70-B3CE-5387CE9594E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37F6-FF4A-4F3F-9415-CEB059AE7BF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86A-875A-4000-BE8E-B2EE8E728B1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FEF7-0237-4717-85FE-B82E6195ACA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17E2-CAB8-4B4B-BDDF-94EE38D2673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8D43-87A8-4B1C-A367-FBA15097AD0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9BAB-993B-4B26-ADE3-564431A3D9A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B837-AD1D-4ED9-AC41-9D2169226CA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4529-62D4-491B-A4CE-FEC24AE40BF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B94E-CCC8-4632-BD3C-7A823894940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A9B-7C4C-490F-B4DF-44A05622269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04F5-F07A-4A9E-93C5-2C8B381230E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도하게 긴 설명문 금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지와 텍스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멀티미디어 적절하게 활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52D8-04A4-4F69-8954-39E4D7941A5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9CB-27B6-42D0-8359-8897EB39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CCE-3619-4189-890E-A4670857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8AF-0145-4D3F-861F-8A1407E9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3DE-1437-4BC4-9E22-1B2E19F1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272-55AD-486E-ACC7-BE2B55F7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A26-66E2-4FB1-B3BC-DC87FD34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E93-DC90-4E53-957E-831C46D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5B9-C9DF-49E6-ADFF-7E916F9B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9A3-A126-454F-91F0-43DB081D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B7A-F721-469A-BB1F-2FDD5BAC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F1D-3119-44E8-BADC-E79585F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7CB-8ABF-44C7-BDB7-B0E89163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3A1A-AEED-4895-9399-94EE48441D7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0x10.co.kr/" TargetMode="External"/><Relationship Id="rId2" Type="http://schemas.openxmlformats.org/officeDocument/2006/relationships/hyperlink" Target="http://yes24.com/" TargetMode="External"/><Relationship Id="rId3" Type="http://schemas.openxmlformats.org/officeDocument/2006/relationships/hyperlink" Target="http://www.24hz.com/" TargetMode="External"/><Relationship Id="rId4" Type="http://schemas.openxmlformats.org/officeDocument/2006/relationships/hyperlink" Target="http://library.snu.ac.kr/" TargetMode="External"/><Relationship Id="rId5" Type="http://schemas.openxmlformats.org/officeDocument/2006/relationships/hyperlink" Target="http://www.worldcat.org/" TargetMode="External"/><Relationship Id="rId6" Type="http://schemas.openxmlformats.org/officeDocument/2006/relationships/hyperlink" Target="http://www.mcst.go.kr/main.jsp" TargetMode="External"/><Relationship Id="rId7" Type="http://schemas.openxmlformats.org/officeDocument/2006/relationships/hyperlink" Target="http://www.egov.go.kr/" TargetMode="External"/><Relationship Id="rId8" Type="http://schemas.openxmlformats.org/officeDocument/2006/relationships/hyperlink" Target="http://www.chungnam.ac.kr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어떤 홈페이지가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좋은 홈페이지인가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9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정동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목적에 필요한 기능의 구현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쇼핑몰이라면 당연히 검색과 결제 기능이 있어야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학회 홈페이지에서는 학회지 구독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논문 투고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회비 결제 등의 기능이 있어야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맑은 고딕"/>
              </a:rPr>
              <a:t>학과 홈페이지에서는</a:t>
            </a:r>
            <a:r>
              <a:rPr b="1" lang="en-US" sz="24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상식적이고 간편한 사용자 조작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적절한 아이콘과 하이퍼텍스트의 사용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최근 마우스를 이용한 드래그 등도 자주 사용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디자인의 일관성과 단순성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페이지마다 글꼴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형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header, tail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등 통일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배경보다 전달하고자 하는 내용이 돋보이도록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항해 용이성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충남대학교 자유전공학부 홈페이지에서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다빈치 원서강독회 설명 페이지는 어떻게 찾아갈까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다양한 사용자에 대한 고려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작은 화면 사용자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모바일 사용자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다양한 웹브라우저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48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2920" y="981000"/>
            <a:ext cx="8407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63520" y="930240"/>
            <a:ext cx="862956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페이지는 가능한 가볍게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필요 이상으로 너무 크거나 많은 그림은 삼가야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검색에 잘 노출되는 사이트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헤더 타이틀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, h1, h2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태그의 적절한 사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텍스트는 텍스트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그림의 대체 텍스트 사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다양한 홈페이지의 목적과 기능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쇼핑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2"/>
              </a:rPr>
              <a:t>온라인 서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3"/>
              </a:rPr>
              <a:t>음악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4"/>
              </a:rPr>
              <a:t>도서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맑은 고딕"/>
                <a:hlinkClick r:id="rId5"/>
              </a:rPr>
              <a:t>DB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6"/>
              </a:rPr>
              <a:t>정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7"/>
              </a:rPr>
              <a:t>전자정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 u="sng">
                <a:solidFill>
                  <a:srgbClr val="0000ff"/>
                </a:solidFill>
                <a:uFillTx/>
                <a:latin typeface="맑은 고딕"/>
                <a:hlinkClick r:id="rId8"/>
              </a:rPr>
              <a:t>학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학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정당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학회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개인 홈페이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블로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학원 블로그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사진포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커뮤니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페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홈페이지의 목적은 무엇이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각 어떤 기능을 구현하고 있을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기타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쇄 용이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사이트 내의 검색 용이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안 문제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아래 사이트에 대한 평가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http://phps.snu.ac.kr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알찬 정보 및 꾸준한 업데이트 中上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절한 정보 전달 형식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텍스트 중심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손쉬운 관리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下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관리 매뉴얼 없음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목적에 따른 기능 구현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친목 下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공지 上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입학 홍보 中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장서 관리 上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정보 저장 및 검색 中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규 공유 下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교수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학생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예비입학생 모두 고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식적이고 간편한 사용자 조작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익숙한 게시판 형식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but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너무 과도한 사용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평가 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(</a:t>
            </a: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계속</a:t>
            </a:r>
            <a:r>
              <a:rPr b="1" lang="en-US" sz="4400" spc="-1" strike="noStrike">
                <a:solidFill>
                  <a:srgbClr val="ffc000"/>
                </a:solidFill>
                <a:latin typeface="맑은 고딕"/>
              </a:rPr>
              <a:t>)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디자인의 일관성과 단순성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上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항해 용이성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관리자 페이지 접속 힘듬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다양한 사용자에 대한 고려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다양한 브라우저에서 거의 동일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모바일 페이지 없음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영문 페이지 없음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페이지의 가벼움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사진게시판 섬네일의 파일용량 큼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검색에 잘 노출되는 정도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h1, h2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태그 비사용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웹표준 지키지 않음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인쇄 용이성 中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보안 下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배포 중지된 제로보드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사이트 내 검색 용이성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中 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ffffff"/>
                </a:solidFill>
                <a:latin typeface="맑은 고딕"/>
              </a:rPr>
              <a:t>게시판만 검색 가능</a:t>
            </a:r>
            <a:r>
              <a:rPr b="0" lang="en-US" sz="26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팀 발표 준비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충남대학교 자유전공학부 홈페이지의 문제점을 분석하고 개선 방안을 마련하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다른 학과의 홈페이지들에 대한 리뷰 필수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제작 비용과 유지 비용도 고려할 것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발표 준비 과정에서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Google docs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를 활용할 것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발표는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ppt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나 다른 소프트웨어를 활용할 것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발표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11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9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명확한 목적과 그에 따른 기능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364464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친목 도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공지 게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홍보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자료 저장 및 검색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물건 판매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입장 개진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토론용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유용한 정보 전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어떤 방문객들을 고려할 것인가</a:t>
            </a:r>
            <a:r>
              <a:rPr b="1" lang="en-US" sz="4000" spc="-1" strike="noStrike">
                <a:solidFill>
                  <a:srgbClr val="ffc000"/>
                </a:solidFill>
                <a:latin typeface="맑은 고딕"/>
              </a:rPr>
              <a:t>? 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교수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학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예비입학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다양한 방문객의 요구를 어떻게 만족시킬 것인가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맑은 고딕"/>
              </a:rPr>
              <a:t>좋은 홈페이지의 요건</a:t>
            </a: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찬 정보와 지속적인 업데이트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적에 필요한 기능의 구현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식적이고 간편한 사용자 조작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디자인의 일관성과 단순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항해 용이성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다양한 사용자에 대한 고려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페이지는 가능한 가볍게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검색에 잘 노출되어야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알찬 정보와 지속적인 업데이트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제작보다 지속적인 관리가 중요하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처음부터 관리와 업데이트 용이하게 만들어야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a452a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맑은 고딕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3691" t="4668" r="20267" b="0"/>
          <a:stretch/>
        </p:blipFill>
        <p:spPr>
          <a:xfrm>
            <a:off x="0" y="18900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3" name="직선 연결선 5"/>
          <p:cNvSpPr/>
          <p:nvPr/>
        </p:nvSpPr>
        <p:spPr>
          <a:xfrm>
            <a:off x="3708360" y="4149720"/>
            <a:ext cx="2158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맑은 고딕"/>
              </a:rPr>
              <a:t>웹에 맞는 정보 전달 형식</a:t>
            </a:r>
            <a:endParaRPr b="1" lang="en-US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644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0" t="0" r="13996" b="0"/>
          <a:stretch/>
        </p:blipFill>
        <p:spPr>
          <a:xfrm>
            <a:off x="66600" y="404640"/>
            <a:ext cx="896940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0-18T13:08:52Z</dcterms:modified>
  <cp:revision>20</cp:revision>
  <dc:subject/>
  <dc:title>컴퓨터는 어떻게  덧셈, 뺄셈을 할까?</dc:title>
</cp:coreProperties>
</file>